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D585A5D-BB47-4770-89C3-9EAB302EE9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33CEA5-D94C-4CEB-B25C-3524B93D80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084B760-F743-4E2E-9A7C-8CF3F166A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199A64DC-5422-4F0C-906E-DF996AA155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DA8F570-73EF-4CD3-A90E-E8481CEDEA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0D3A1E4-67FF-4B62-987D-5BDCA13F3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3A8681B-A084-45AC-894E-9FC6200A8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未更新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38AB4F-88FC-43B5-B245-FEF0487E51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EE7D-07AA-4BBE-8660-A4DA8DC2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526-53DC-4788-9463-9FAC6DB85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312C-3556-44C0-981F-F6651E5F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1FC0-9D82-4FE2-9213-E2000DE9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00C2-B123-45BC-B66F-3B6EB23D1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52C5-54BA-413D-B297-202F3977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35B8-9DB4-4A35-9F8D-CC1E4E9D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A8CD-E13B-49A1-96F3-BDFEC8E1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18B92-40F4-4BC6-92FE-E81A3D27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4434-E22F-4A04-A1AE-6149A98D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6232-3E78-4B19-90D4-2A34716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016F-F0DE-47A1-8E25-6376E31B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1DF1-DC86-4DD0-8353-B2EC4FF1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6ACC6-9D39-40BD-B7F6-18AE0E42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3021-AB06-48D1-8CB8-15F1D757C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76BA-D068-455E-B0B5-57270A43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624B-5D23-44DB-B100-D40DC1FE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990C-8E39-485F-873C-0C89F57F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EA3E-4614-453B-948D-91A4AC9F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5B99-3283-4BEE-9B61-B4D1C54B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2487-8CD0-4777-A3F6-9706DA13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71B7-21DA-422D-858B-FB1DF639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2AE4-CF05-49C8-98D8-2A0A03A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A2FE-EA34-4850-9495-C07CEFE6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8F4CA-CC86-4693-BEA9-449AB27781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3B6FE-4F0E-40B7-A541-D854504616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图片2"/>
          <p:cNvPicPr/>
          <p:nvPr/>
        </p:nvPicPr>
        <p:blipFill>
          <a:blip r:embed="rId2"/>
          <a:stretch/>
        </p:blipFill>
        <p:spPr>
          <a:xfrm>
            <a:off x="3240" y="3240"/>
            <a:ext cx="9140760" cy="685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2"/>
          <p:cNvSpPr/>
          <p:nvPr/>
        </p:nvSpPr>
        <p:spPr>
          <a:xfrm>
            <a:off x="468360" y="5143680"/>
            <a:ext cx="558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rt B. Motion Triggered Al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714240" y="2019240"/>
            <a:ext cx="529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IP Surveillance Came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lication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1" descr="Snap21"/>
          <p:cNvPicPr/>
          <p:nvPr/>
        </p:nvPicPr>
        <p:blipFill>
          <a:blip r:embed="rId1"/>
          <a:stretch/>
        </p:blipFill>
        <p:spPr>
          <a:xfrm>
            <a:off x="684360" y="765000"/>
            <a:ext cx="5400360" cy="4991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6156360" y="907920"/>
            <a:ext cx="2879640" cy="54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just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reshold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nd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nsitivity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al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resho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means the extent which the alarm will be triggered.  The less the value is, the easier the alarm be trigg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nsitivit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means that how often the sensor will scan the image. The higher sensitivity it is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ore frequently it sca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fter that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finish the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908000" y="234648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3 Set up FTP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00000" y="43657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 should set up a FTP server which can be connected from the LAN which the camera is in. And the port of the FTP server should be 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9"/>
          <p:cNvSpPr/>
          <p:nvPr/>
        </p:nvSpPr>
        <p:spPr>
          <a:xfrm>
            <a:off x="900000" y="501984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-&gt;Advanced-&gt;FTP client -&gt;General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enable FTP client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Snap8"/>
          <p:cNvPicPr/>
          <p:nvPr/>
        </p:nvPicPr>
        <p:blipFill>
          <a:blip r:embed="rId1"/>
          <a:stretch/>
        </p:blipFill>
        <p:spPr>
          <a:xfrm>
            <a:off x="1593720" y="1353960"/>
            <a:ext cx="585792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9" descr="Snap9"/>
          <p:cNvPicPr/>
          <p:nvPr/>
        </p:nvPicPr>
        <p:blipFill>
          <a:blip r:embed="rId1"/>
          <a:stretch/>
        </p:blipFill>
        <p:spPr>
          <a:xfrm>
            <a:off x="1162080" y="549360"/>
            <a:ext cx="5857920" cy="28861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826920" y="3573360"/>
            <a:ext cx="7560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TP server nam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field, just type the IP or the domain of your FTP server. Only IP/domain without prefix ftp://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ser nam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sswor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re the account to log on to the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you select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ssive mode 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it will connect to the FTP server using passive mode. Whether you should choos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ff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depends on the FTP ser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fter that,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test the configu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Snap10"/>
          <p:cNvPicPr/>
          <p:nvPr/>
        </p:nvPicPr>
        <p:blipFill>
          <a:blip r:embed="rId1"/>
          <a:stretch/>
        </p:blipFill>
        <p:spPr>
          <a:xfrm>
            <a:off x="2411280" y="1268280"/>
            <a:ext cx="3816360" cy="272124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826920" y="436572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you can see the message “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TP Test Succes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, it indicates that the configuration is righ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0"/>
          <p:cNvSpPr/>
          <p:nvPr/>
        </p:nvSpPr>
        <p:spPr>
          <a:xfrm>
            <a:off x="1187280" y="516420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-&gt;Advanced-&gt;FTP client -&gt;Alarm sending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enable Alarm se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Snap11"/>
          <p:cNvPicPr/>
          <p:nvPr/>
        </p:nvPicPr>
        <p:blipFill>
          <a:blip r:embed="rId1"/>
          <a:stretch/>
        </p:blipFill>
        <p:spPr>
          <a:xfrm>
            <a:off x="1504800" y="1101600"/>
            <a:ext cx="60199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8"/>
          <p:cNvSpPr/>
          <p:nvPr/>
        </p:nvSpPr>
        <p:spPr>
          <a:xfrm>
            <a:off x="2484360" y="5157720"/>
            <a:ext cx="504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928800" y="4357800"/>
            <a:ext cx="800100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mote path fie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type in the path to the destination on the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File nam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s the file name you want to assign to the images when sending to the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you select Date Time as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ffix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then Date &amp; Time suffix will be added to the image fi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Snap12"/>
          <p:cNvPicPr/>
          <p:nvPr/>
        </p:nvPicPr>
        <p:blipFill>
          <a:blip r:embed="rId1"/>
          <a:stretch/>
        </p:blipFill>
        <p:spPr>
          <a:xfrm>
            <a:off x="1643040" y="857160"/>
            <a:ext cx="6058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7"/>
          <p:cNvSpPr/>
          <p:nvPr/>
        </p:nvSpPr>
        <p:spPr>
          <a:xfrm>
            <a:off x="1547640" y="1844640"/>
            <a:ext cx="6553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tion detection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enabl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If you didn’t configure motion detection before, you can now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tion detec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button to set up motion de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ect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ffective Perio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You can choos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Here we choos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s an example and thus the alarm sending will be effective during the period which is set in the schedule. If you didn’t configure schedule before, you can now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tton to set up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619280" y="1700280"/>
            <a:ext cx="56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4 Check the image file on your FTP ser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971640" y="3860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Snap25"/>
          <p:cNvPicPr/>
          <p:nvPr/>
        </p:nvPicPr>
        <p:blipFill>
          <a:blip r:embed="rId1"/>
          <a:stretch/>
        </p:blipFill>
        <p:spPr>
          <a:xfrm>
            <a:off x="1187280" y="846000"/>
            <a:ext cx="5977080" cy="39513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971640" y="4869000"/>
            <a:ext cx="691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there is motion detected by the camera, the camera will capture the image and then send it to the specified F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 can see the file name is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file name + date &amp; tim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476280"/>
            <a:ext cx="511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nd alarm to your FTP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nd alarm to your E-mail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1763640" y="177336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 2: Send alarm to your E-mail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187280" y="393372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this case, we’re showing you how to send motion triggered alarm to E-mail box. If motion is detected, the camera will send a mail with picture attached to a specified E-mail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908000" y="2349360"/>
            <a:ext cx="5616720" cy="25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1 Set up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fer to Case 1 Step 1, bu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chedule selection list, choos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-Mail(SMTP)-Alarm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908000" y="234648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2 Set up motion de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1908000" y="4365720"/>
            <a:ext cx="58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refer to Case 1 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908000" y="234648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3 Set up SMTP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8"/>
          <p:cNvSpPr/>
          <p:nvPr/>
        </p:nvSpPr>
        <p:spPr>
          <a:xfrm>
            <a:off x="1044720" y="48751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-&gt;Advanced-&gt;SMTP-&gt;General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enable SMTP fun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Snap13"/>
          <p:cNvPicPr/>
          <p:nvPr/>
        </p:nvPicPr>
        <p:blipFill>
          <a:blip r:embed="rId1"/>
          <a:stretch/>
        </p:blipFill>
        <p:spPr>
          <a:xfrm>
            <a:off x="2354400" y="1282680"/>
            <a:ext cx="430524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0" descr="Snap26"/>
          <p:cNvPicPr/>
          <p:nvPr/>
        </p:nvPicPr>
        <p:blipFill>
          <a:blip r:embed="rId1"/>
          <a:stretch/>
        </p:blipFill>
        <p:spPr>
          <a:xfrm>
            <a:off x="755640" y="836640"/>
            <a:ext cx="800244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"/>
          <p:cNvSpPr/>
          <p:nvPr/>
        </p:nvSpPr>
        <p:spPr>
          <a:xfrm>
            <a:off x="971640" y="3860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116000" y="1379520"/>
            <a:ext cx="741672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TP server nam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TP server port,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ype in the correct SMTP server and port. If necessary, please check SS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ser nam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assword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re for you to log on to the mail server, make sure they are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the above settings is depends on your SM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Recipient e-Mail address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s the E-mail address where you want the alarm mail be sent 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ministrator e-mail address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sed for reply mail and sending system messages from the SMTP ser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bject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s the subject/title of the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essag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is the text of the E-m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fter fill in all the fields, cli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est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test the sett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Snap16"/>
          <p:cNvPicPr/>
          <p:nvPr/>
        </p:nvPicPr>
        <p:blipFill>
          <a:blip r:embed="rId1"/>
          <a:stretch/>
        </p:blipFill>
        <p:spPr>
          <a:xfrm>
            <a:off x="3203640" y="1268280"/>
            <a:ext cx="3676680" cy="25909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1116000" y="47322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you can see the message “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MTP Test Succes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, that means the configuration is rig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9"/>
          <p:cNvSpPr/>
          <p:nvPr/>
        </p:nvSpPr>
        <p:spPr>
          <a:xfrm>
            <a:off x="1214280" y="464328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-&gt;Advanced-&gt;SMTP-&gt;Alarm sending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d 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enable Alarm send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Snap27"/>
          <p:cNvPicPr/>
          <p:nvPr/>
        </p:nvPicPr>
        <p:blipFill>
          <a:blip r:embed="rId1"/>
          <a:stretch/>
        </p:blipFill>
        <p:spPr>
          <a:xfrm>
            <a:off x="1643040" y="928800"/>
            <a:ext cx="599112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0"/>
          <p:cNvSpPr/>
          <p:nvPr/>
        </p:nvSpPr>
        <p:spPr>
          <a:xfrm>
            <a:off x="928800" y="4429080"/>
            <a:ext cx="72738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le attachment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n,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so that E-mail will be send with picture attach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mage File name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s the file name you want to assign to the images when sending to the E-mail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you select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ate Time as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uffix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then Date &amp; Time suffix will added to the image file n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Snap28"/>
          <p:cNvPicPr/>
          <p:nvPr/>
        </p:nvPicPr>
        <p:blipFill>
          <a:blip r:embed="rId1"/>
          <a:stretch/>
        </p:blipFill>
        <p:spPr>
          <a:xfrm>
            <a:off x="1347840" y="885960"/>
            <a:ext cx="6010200" cy="34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763640" y="1773360"/>
            <a:ext cx="56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ase 1: Send alarm to your FTP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4365720"/>
            <a:ext cx="72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this case, we’re showing you how to send motion triggered alarm to your FTP server. If motion is detected, the camera will send picture to a specified FTP serv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0"/>
          <p:cNvSpPr/>
          <p:nvPr/>
        </p:nvSpPr>
        <p:spPr>
          <a:xfrm>
            <a:off x="1547640" y="1844640"/>
            <a:ext cx="6553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tion detection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o enabl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If you didn’t configure motion detection before, you can now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tion detec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button to set up motion det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ect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ffective Perio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You can choos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way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or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Here we choose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s an example and thus the alarm sending will be effective during the period which is set in the schedule. If you didn’t configure schedule before, you can now cli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utton to set up the schedu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044720" y="262908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3 Go and Check the Email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Snap29"/>
          <p:cNvPicPr/>
          <p:nvPr/>
        </p:nvPicPr>
        <p:blipFill>
          <a:blip r:embed="rId1"/>
          <a:stretch/>
        </p:blipFill>
        <p:spPr>
          <a:xfrm>
            <a:off x="900000" y="907920"/>
            <a:ext cx="6696360" cy="37465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900000" y="5157720"/>
            <a:ext cx="77756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f there is motion detected by the camera, the camera will capture the image and send a mail attached with the image file to the specified E-mail b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7"/>
          <p:cNvSpPr/>
          <p:nvPr/>
        </p:nvSpPr>
        <p:spPr>
          <a:xfrm>
            <a:off x="1908000" y="234936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1 Set up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/>
          <p:cNvSpPr/>
          <p:nvPr/>
        </p:nvSpPr>
        <p:spPr>
          <a:xfrm>
            <a:off x="755640" y="4667400"/>
            <a:ext cx="792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fter login to the camera, 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-&gt;Advanced-&gt;Schedul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 the 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chedule selection 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ist, choose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TP-Alarm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nd select effective time period of the schedule. Here I make it effective from 00 to 24. Then cli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make the schedule effective for Mon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9" descr="Snap4"/>
          <p:cNvPicPr/>
          <p:nvPr/>
        </p:nvPicPr>
        <p:blipFill>
          <a:blip r:embed="rId1"/>
          <a:stretch/>
        </p:blipFill>
        <p:spPr>
          <a:xfrm>
            <a:off x="755640" y="857160"/>
            <a:ext cx="81374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1042920" y="472752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s we have checked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se the same time schedule everyda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 it’s no need to set schedule for the remained days. Then you can cli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OK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to finish the schedule set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Snap6"/>
          <p:cNvPicPr/>
          <p:nvPr/>
        </p:nvPicPr>
        <p:blipFill>
          <a:blip r:embed="rId1"/>
          <a:stretch/>
        </p:blipFill>
        <p:spPr>
          <a:xfrm>
            <a:off x="900000" y="981000"/>
            <a:ext cx="784872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6443640" y="1700280"/>
            <a:ext cx="237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900000" y="49291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lso, you can uncheck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Use the same time schedule everyday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nd set the schedule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Snap7"/>
          <p:cNvPicPr/>
          <p:nvPr/>
        </p:nvPicPr>
        <p:blipFill>
          <a:blip r:embed="rId1"/>
          <a:stretch/>
        </p:blipFill>
        <p:spPr>
          <a:xfrm>
            <a:off x="900000" y="1096920"/>
            <a:ext cx="79534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1908000" y="2346480"/>
            <a:ext cx="561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ep 2 Set up motion det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Operation On Local P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403280" y="43657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lease note that you can only set up motion detection function on Internet Explor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Snap24"/>
          <p:cNvPicPr/>
          <p:nvPr/>
        </p:nvPicPr>
        <p:blipFill>
          <a:blip r:embed="rId1"/>
          <a:stretch/>
        </p:blipFill>
        <p:spPr>
          <a:xfrm>
            <a:off x="826920" y="765000"/>
            <a:ext cx="5834160" cy="53658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4"/>
          <p:cNvSpPr/>
          <p:nvPr/>
        </p:nvSpPr>
        <p:spPr>
          <a:xfrm>
            <a:off x="6696000" y="1773360"/>
            <a:ext cx="244800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Go to </a:t>
            </a:r>
            <a:r>
              <a:rPr b="1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TTING -&gt; Advanced -&gt; Motion detectio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heck </a:t>
            </a:r>
            <a:r>
              <a:rPr b="0" i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Motion detection 1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and adjust the detecting area by using mou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You can set up a total of 3 detecting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8T02:23:30Z</dcterms:created>
  <dc:creator>exportnew</dc:creator>
  <dc:description/>
  <dc:language>en-US</dc:language>
  <cp:lastModifiedBy>joyce</cp:lastModifiedBy>
  <dcterms:modified xsi:type="dcterms:W3CDTF">2010-11-16T09:53:09Z</dcterms:modified>
  <cp:revision>130</cp:revision>
  <dc:subject/>
  <dc:title>Slide 1</dc:title>
</cp:coreProperties>
</file>